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E8A-A665-4AE9-A698-29B38DE5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4D1-41FB-43F3-AE90-E38E684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F18-33B8-4D07-A0F1-C8FD7E20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CD1-85BE-447D-A4EE-879B4C5E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67C-A6BF-45B0-A874-718007F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DFE-B640-4F81-9AE6-BCA2A592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1E3-1121-431D-986B-995872B5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728-8BCE-4726-9B5C-5DDA764F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584-8D58-494A-B730-3B3F1259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0B3-6D2D-4642-9C61-9CA4F2A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802-B0FB-43D7-95F2-2388C8B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653-CECC-47CD-8D0A-065C690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0A95-5EE9-428B-897B-EA265EE1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2133720"/>
            <a:ext cx="4191120" cy="32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1174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 principles, goals,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0000"/>
                </a:solidFill>
                <a:latin typeface="Verdana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, Test &amp;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505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715400">
            <a:off x="5486400" y="18288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7525800">
            <a:off x="5181480" y="541008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2204600">
            <a:off x="2742480" y="59428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4568600">
            <a:off x="761760" y="44953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469800">
            <a:off x="685080" y="281952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206200">
            <a:off x="1752480" y="167616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idence-Bas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56386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: Kirk Hamilton; Malone et al, 2007; Zimring, 200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1295280" cy="9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1371600" cy="91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8" name=""/>
          <p:cNvGraphicFramePr/>
          <p:nvPr/>
        </p:nvGraphicFramePr>
        <p:xfrm>
          <a:off x="2438280" y="2895480"/>
          <a:ext cx="1371600" cy="10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89548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2590920"/>
            <a:ext cx="167616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590920"/>
            <a:ext cx="167652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algn="ctr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4191120"/>
            <a:ext cx="167652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2819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ormational leadership &amp; cultur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2096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61976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2895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designed car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760" y="352116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ealing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6:07:15Z</dcterms:created>
  <dc:creator>Craig Zimring</dc:creator>
  <dc:description/>
  <dc:language>en-US</dc:language>
  <cp:lastModifiedBy>profile</cp:lastModifiedBy>
  <dcterms:modified xsi:type="dcterms:W3CDTF">2007-08-21T22:12:25Z</dcterms:modified>
  <cp:revision>3</cp:revision>
  <dc:subject/>
  <dc:title>Slide 1</dc:title>
</cp:coreProperties>
</file>